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AFB3B1-C47F-49AB-ADAE-9409E74866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76CBD8-8AA3-46F8-A354-AA20A929CF2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7CB7E0-8858-4512-877D-D2068DDE70C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61B1898-2E9E-47BB-9899-C4FB61E1D6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7489AB9-36DC-48DA-B5BC-27B5A10255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A12980-CB76-4021-AAB8-36CF3B151A3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60089B8-54A8-4D2D-A1B1-544D11A9AF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6E7A3C-23CD-4F94-8AE6-E1186E13DAE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CDE980-F476-4F22-83D8-5AAF1EF532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A719EE-3EDE-4365-A951-EED911F0B5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89B424-EDA2-4053-88AC-7DB7A8A266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534512-4219-413E-A668-26136AFE0A2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3A8F46-46A5-46EF-A7E5-C2931109D6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CE16274-1D44-485A-B211-C6934AD8378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CE7518-49B2-4750-88DC-F6B41DFC58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B1A4-B325-4B3E-BEC6-9829473AE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9280" y="3654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533D-D261-4C3E-ACA7-7BE0E38F1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21FB-40AB-416E-B04B-3B4D8A72E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172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416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928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172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416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24AD-21EF-4174-85B4-78F2F7025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9FF5-C5AA-4615-BE6E-BB75C6032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632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9280" y="3654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632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172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4160" y="1066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928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172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84160" y="3654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116D-0BC3-4C3F-8C6B-24B46A00C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5A69-83EE-440B-A136-84D98FEEF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BFCB-542F-45B3-B82F-EF1F1300A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9280" y="349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0818-E883-43D8-93AF-1107502FE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AD14-0CD9-4DA8-9005-29A796C40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3654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CB2D-97E0-4B5D-AAA6-92E3E5B10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1066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9280" y="3654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1E04-9032-4804-9E7A-EE0790775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up"/>
          <p:cNvPicPr/>
          <p:nvPr/>
        </p:nvPicPr>
        <p:blipFill>
          <a:blip r:embed="rId2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4d8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4c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4" descr="powerpoint1_sec"/>
          <p:cNvPicPr/>
          <p:nvPr/>
        </p:nvPicPr>
        <p:blipFill>
          <a:blip r:embed="rId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71"/>
          <p:cNvSpPr/>
          <p:nvPr/>
        </p:nvSpPr>
        <p:spPr>
          <a:xfrm>
            <a:off x="1908000" y="658008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f6e"/>
                </a:solidFill>
                <a:latin typeface="Century Gothic"/>
              </a:rPr>
              <a:t>Alberto Cig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178920" y="6613200"/>
            <a:ext cx="1513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1080000" tIns="0" bIns="0" anchor="t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6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BECE-3AB3-432D-8E54-8F29ABF1177B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6" descr="bg"/>
          <p:cNvPicPr/>
          <p:nvPr/>
        </p:nvPicPr>
        <p:blipFill>
          <a:blip r:embed="rId2"/>
          <a:stretch/>
        </p:blipFill>
        <p:spPr>
          <a:xfrm>
            <a:off x="0" y="0"/>
            <a:ext cx="9150480" cy="4932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5"/>
          <p:cNvSpPr/>
          <p:nvPr/>
        </p:nvSpPr>
        <p:spPr>
          <a:xfrm>
            <a:off x="0" y="0"/>
            <a:ext cx="9169560" cy="68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9280" y="3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e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192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4c80"/>
              </a:buClr>
              <a:buSzPct val="8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4d8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4c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Minion We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61B6-78EB-44AC-8280-3A248D144A77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1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9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tay hungry, stay fo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Steve Jobs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Fondatore di Appl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University of Stamford, 2 ottobr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1A59-CF89-4147-B24E-0FD2BF5E9BD1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2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There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 plenty of room at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Richard Feynman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adre delle nanotecnologi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California Institute of Technology – 29 dicembr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f6e"/>
                </a:solidFill>
                <a:latin typeface="Arial"/>
              </a:rPr>
              <a:t>Teorizzò, anticipando i tempi, che i materiali organizzati su scala nanometrica avrebbero acquisito proprietà completamente diverse da quelle che hanno a scala macro o microme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uv"/>
          <p:cNvPicPr/>
          <p:nvPr/>
        </p:nvPicPr>
        <p:blipFill>
          <a:blip r:embed="rId1"/>
          <a:stretch/>
        </p:blipFill>
        <p:spPr>
          <a:xfrm>
            <a:off x="395280" y="3905280"/>
            <a:ext cx="8059680" cy="1252440"/>
          </a:xfrm>
          <a:prstGeom prst="rect">
            <a:avLst/>
          </a:prstGeom>
          <a:ln w="0">
            <a:noFill/>
          </a:ln>
        </p:spPr>
      </p:pic>
      <p:pic>
        <p:nvPicPr>
          <p:cNvPr id="142" name="Rettangolo 14" descr=""/>
          <p:cNvPicPr/>
          <p:nvPr/>
        </p:nvPicPr>
        <p:blipFill>
          <a:blip r:embed="rId2"/>
          <a:stretch/>
        </p:blipFill>
        <p:spPr>
          <a:xfrm>
            <a:off x="2243160" y="5516640"/>
            <a:ext cx="434664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E21B-4BDA-4B95-97AC-924B7036FE42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2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There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 plenty of room at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Richard Feynman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adre delle nanotecnologi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California Institute of Technology – 29 dicembr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f6e"/>
                </a:solidFill>
                <a:latin typeface="Arial"/>
              </a:rPr>
              <a:t>Teorizzò, anticipando i tempi, che i materiali organizzati su scala nanometrica avrebbero acquisito proprietà completamente diverse da quelle che hanno a scala macro o microme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uv"/>
          <p:cNvPicPr/>
          <p:nvPr/>
        </p:nvPicPr>
        <p:blipFill>
          <a:blip r:embed="rId1"/>
          <a:stretch/>
        </p:blipFill>
        <p:spPr>
          <a:xfrm>
            <a:off x="395280" y="3905280"/>
            <a:ext cx="8059680" cy="1252440"/>
          </a:xfrm>
          <a:prstGeom prst="rect">
            <a:avLst/>
          </a:prstGeom>
          <a:ln w="0">
            <a:noFill/>
          </a:ln>
        </p:spPr>
      </p:pic>
      <p:pic>
        <p:nvPicPr>
          <p:cNvPr id="148" name="Immagine 1" descr=""/>
          <p:cNvPicPr/>
          <p:nvPr/>
        </p:nvPicPr>
        <p:blipFill>
          <a:blip r:embed="rId2"/>
          <a:srcRect l="7535" t="8105" r="9000" b="60349"/>
          <a:stretch/>
        </p:blipFill>
        <p:spPr>
          <a:xfrm>
            <a:off x="1763640" y="5229360"/>
            <a:ext cx="554508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D7BC-5BDB-441A-AE67-CA70AD8F73A3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3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90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L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importante è non svegliarsi una mattina e scoprire che il mondo è cambiato senza che ce ne siamo acco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Anonimo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Aspirante futurologo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olitecnico di Milano, 10 settembr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F63F-3DDE-42E3-BDDD-900561C5D6F2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3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90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L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importante è non svegliarsi una mattina e scoprire che il mondo è cambiato senza che ce ne siamo acco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Anonimo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Aspirante futurologo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olitecnico di Milano, 10 settembr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ttangolo 9" descr=""/>
          <p:cNvPicPr/>
          <p:nvPr/>
        </p:nvPicPr>
        <p:blipFill>
          <a:blip r:embed="rId1"/>
          <a:stretch/>
        </p:blipFill>
        <p:spPr>
          <a:xfrm>
            <a:off x="822240" y="2828880"/>
            <a:ext cx="329256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9F5C-8F06-44AD-8408-E98998C5B103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3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90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L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importante è non svegliarsi una mattina e scoprire che il mondo è cambiato senza che ce ne siamo acco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Anonimo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Aspirante futurologo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olitecnico di Milano, 10 settembr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11280" y="357336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Rettangolo 9" descr=""/>
          <p:cNvPicPr/>
          <p:nvPr/>
        </p:nvPicPr>
        <p:blipFill>
          <a:blip r:embed="rId1"/>
          <a:stretch/>
        </p:blipFill>
        <p:spPr>
          <a:xfrm>
            <a:off x="822240" y="2828880"/>
            <a:ext cx="3292560" cy="603360"/>
          </a:xfrm>
          <a:prstGeom prst="rect">
            <a:avLst/>
          </a:prstGeom>
          <a:ln w="0">
            <a:noFill/>
          </a:ln>
        </p:spPr>
      </p:pic>
      <p:pic>
        <p:nvPicPr>
          <p:cNvPr id="161" name="Rettangolo 10" descr=""/>
          <p:cNvPicPr/>
          <p:nvPr/>
        </p:nvPicPr>
        <p:blipFill>
          <a:blip r:embed="rId2"/>
          <a:stretch/>
        </p:blipFill>
        <p:spPr>
          <a:xfrm>
            <a:off x="963720" y="3681360"/>
            <a:ext cx="4174920" cy="542880"/>
          </a:xfrm>
          <a:prstGeom prst="rect">
            <a:avLst/>
          </a:prstGeom>
          <a:ln w="0">
            <a:noFill/>
          </a:ln>
        </p:spPr>
      </p:pic>
      <p:pic>
        <p:nvPicPr>
          <p:cNvPr id="162" name="Rettangolo 11" descr=""/>
          <p:cNvPicPr/>
          <p:nvPr/>
        </p:nvPicPr>
        <p:blipFill>
          <a:blip r:embed="rId3"/>
          <a:stretch/>
        </p:blipFill>
        <p:spPr>
          <a:xfrm>
            <a:off x="5864400" y="3780000"/>
            <a:ext cx="2609640" cy="547560"/>
          </a:xfrm>
          <a:prstGeom prst="rect">
            <a:avLst/>
          </a:prstGeom>
          <a:ln w="0">
            <a:noFill/>
          </a:ln>
        </p:spPr>
      </p:pic>
      <p:pic>
        <p:nvPicPr>
          <p:cNvPr id="163" name="Rettangolo 12" descr=""/>
          <p:cNvPicPr/>
          <p:nvPr/>
        </p:nvPicPr>
        <p:blipFill>
          <a:blip r:embed="rId4"/>
          <a:stretch/>
        </p:blipFill>
        <p:spPr>
          <a:xfrm>
            <a:off x="249120" y="4516560"/>
            <a:ext cx="5145120" cy="604800"/>
          </a:xfrm>
          <a:prstGeom prst="rect">
            <a:avLst/>
          </a:prstGeom>
          <a:ln w="0">
            <a:noFill/>
          </a:ln>
        </p:spPr>
      </p:pic>
      <p:pic>
        <p:nvPicPr>
          <p:cNvPr id="164" name="Rettangolo 13" descr=""/>
          <p:cNvPicPr/>
          <p:nvPr/>
        </p:nvPicPr>
        <p:blipFill>
          <a:blip r:embed="rId5"/>
          <a:stretch/>
        </p:blipFill>
        <p:spPr>
          <a:xfrm>
            <a:off x="1292400" y="5407200"/>
            <a:ext cx="3797280" cy="549000"/>
          </a:xfrm>
          <a:prstGeom prst="rect">
            <a:avLst/>
          </a:prstGeom>
          <a:ln w="0">
            <a:noFill/>
          </a:ln>
        </p:spPr>
      </p:pic>
      <p:pic>
        <p:nvPicPr>
          <p:cNvPr id="165" name="Rettangolo 14" descr=""/>
          <p:cNvPicPr/>
          <p:nvPr/>
        </p:nvPicPr>
        <p:blipFill>
          <a:blip r:embed="rId6"/>
          <a:stretch/>
        </p:blipFill>
        <p:spPr>
          <a:xfrm>
            <a:off x="4816440" y="5005440"/>
            <a:ext cx="3065400" cy="547560"/>
          </a:xfrm>
          <a:prstGeom prst="rect">
            <a:avLst/>
          </a:prstGeom>
          <a:ln w="0">
            <a:noFill/>
          </a:ln>
        </p:spPr>
      </p:pic>
      <p:pic>
        <p:nvPicPr>
          <p:cNvPr id="166" name="Rettangolo 15" descr=""/>
          <p:cNvPicPr/>
          <p:nvPr/>
        </p:nvPicPr>
        <p:blipFill>
          <a:blip r:embed="rId7"/>
          <a:stretch/>
        </p:blipFill>
        <p:spPr>
          <a:xfrm>
            <a:off x="5937120" y="4432320"/>
            <a:ext cx="824040" cy="633240"/>
          </a:xfrm>
          <a:prstGeom prst="rect">
            <a:avLst/>
          </a:prstGeom>
          <a:ln w="0">
            <a:noFill/>
          </a:ln>
        </p:spPr>
      </p:pic>
      <p:pic>
        <p:nvPicPr>
          <p:cNvPr id="167" name="Rettangolo 16" descr=""/>
          <p:cNvPicPr/>
          <p:nvPr/>
        </p:nvPicPr>
        <p:blipFill>
          <a:blip r:embed="rId8"/>
          <a:stretch/>
        </p:blipFill>
        <p:spPr>
          <a:xfrm>
            <a:off x="5430960" y="5651640"/>
            <a:ext cx="3189240" cy="547560"/>
          </a:xfrm>
          <a:prstGeom prst="rect">
            <a:avLst/>
          </a:prstGeom>
          <a:ln w="0">
            <a:noFill/>
          </a:ln>
        </p:spPr>
      </p:pic>
      <p:pic>
        <p:nvPicPr>
          <p:cNvPr id="168" name="Rettangolo 17" descr=""/>
          <p:cNvPicPr/>
          <p:nvPr/>
        </p:nvPicPr>
        <p:blipFill>
          <a:blip r:embed="rId9"/>
          <a:stretch/>
        </p:blipFill>
        <p:spPr>
          <a:xfrm>
            <a:off x="5357880" y="3078000"/>
            <a:ext cx="224316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31FF-ADB3-4C03-90EB-6DB526D221C1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1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9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tay hungry, stay fo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Steve Jobs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Fondatore di Appl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University of Stamford, 2 ottobr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4d82"/>
                </a:solidFill>
                <a:latin typeface="Arial"/>
              </a:rPr>
              <a:t>Discorso in cui raccontò come abbandonando la Stamford University per seguire (senza laurearsi) un </a:t>
            </a:r>
            <a:r>
              <a:rPr b="1" lang="it-IT" sz="2400" spc="-1" strike="noStrike">
                <a:solidFill>
                  <a:srgbClr val="004d82"/>
                </a:solidFill>
                <a:latin typeface="Arial"/>
              </a:rPr>
              <a:t>CORSO LIBERO </a:t>
            </a:r>
            <a:r>
              <a:rPr b="0" lang="it-IT" sz="2400" spc="-1" strike="noStrike">
                <a:solidFill>
                  <a:srgbClr val="004d82"/>
                </a:solidFill>
                <a:latin typeface="Arial"/>
              </a:rPr>
              <a:t>di calligrafia capì il valore del carattere proporzionale che determinò dieci anni dopo il successo del primo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2E1C-F98D-4008-AC8A-E7F027885C4E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1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9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tay hungry, stay fo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Steve Jobs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Fondatore di Appl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University of Stamford, 2 ottobr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4d82"/>
                </a:solidFill>
                <a:latin typeface="Arial"/>
              </a:rPr>
              <a:t>Discorso in cui raccontò come abbandonando la Stamford University per seguire (senza laurearsi) un </a:t>
            </a:r>
            <a:r>
              <a:rPr b="1" lang="it-IT" sz="2400" spc="-1" strike="noStrike">
                <a:solidFill>
                  <a:srgbClr val="004d82"/>
                </a:solidFill>
                <a:latin typeface="Arial"/>
              </a:rPr>
              <a:t>CORSO LIBERO </a:t>
            </a:r>
            <a:r>
              <a:rPr b="0" lang="it-IT" sz="2400" spc="-1" strike="noStrike">
                <a:solidFill>
                  <a:srgbClr val="004d82"/>
                </a:solidFill>
                <a:latin typeface="Arial"/>
              </a:rPr>
              <a:t>di calligrafia capì il valore del carattere proporzionale che determinò dieci anni dopo il successo del primo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Lucida Sans Typewriter"/>
              </a:rPr>
              <a:t>Spaziatura fissa:</a:t>
            </a:r>
            <a:r>
              <a:rPr b="0" lang="it-IT" sz="2800" spc="-1" strike="noStrike">
                <a:solidFill>
                  <a:srgbClr val="ff0000"/>
                </a:solidFill>
                <a:latin typeface="Lucida Sans Typewriter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Lucida Sans Typewriter"/>
              </a:rPr>
              <a:t>mamma, dirigibili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Lucida Sans"/>
              </a:rPr>
              <a:t>Spaziatura proporzionale:</a:t>
            </a:r>
            <a:r>
              <a:rPr b="0" lang="it-IT" sz="2800" spc="-1" strike="noStrike">
                <a:solidFill>
                  <a:srgbClr val="ff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Lucida Sans"/>
              </a:rPr>
              <a:t>mamma, dirig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7600-BB2A-4C05-A145-6F85142CAAA9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2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There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 plenty of room at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Richard Feynman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adre delle nanotecnologi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California Institute of Technology – 29 dicembr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2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There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 plenty of room at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Richard Feynman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adre delle nanotecnologi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California Institute of Technology – 29 dicembr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f6e"/>
                </a:solidFill>
                <a:latin typeface="Arial"/>
              </a:rPr>
              <a:t>Teorizzò, anticipando i tempi, che i materiali organizzati su scala nanometrica avrebbero acquisito proprietà completamente diverse da quelle che hanno a scala macro o microme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5032-CB2D-4AFA-8D27-CE3A9F84CB4A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2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There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 plenty of room at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Richard Feynman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adre delle nanotecnologi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California Institute of Technology – 29 dicembr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f6e"/>
                </a:solidFill>
                <a:latin typeface="Arial"/>
              </a:rPr>
              <a:t>Teorizzò, anticipando i tempi, che i materiali organizzati su scala nanometrica avrebbero acquisito proprietà completamente diverse da quelle che hanno a scala macro o microme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uppo 5"/>
          <p:cNvGrpSpPr/>
          <p:nvPr/>
        </p:nvGrpSpPr>
        <p:grpSpPr>
          <a:xfrm>
            <a:off x="1332000" y="4005360"/>
            <a:ext cx="2266920" cy="2332080"/>
            <a:chOff x="1332000" y="4005360"/>
            <a:chExt cx="2266920" cy="2332080"/>
          </a:xfrm>
        </p:grpSpPr>
        <p:sp>
          <p:nvSpPr>
            <p:cNvPr id="112" name="Rectangle 6"/>
            <p:cNvSpPr/>
            <p:nvPr/>
          </p:nvSpPr>
          <p:spPr>
            <a:xfrm>
              <a:off x="1444320" y="6224760"/>
              <a:ext cx="16563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2" descr="Gecko"/>
            <p:cNvPicPr/>
            <p:nvPr/>
          </p:nvPicPr>
          <p:blipFill>
            <a:blip r:embed="rId1"/>
            <a:stretch/>
          </p:blipFill>
          <p:spPr>
            <a:xfrm>
              <a:off x="1854720" y="4005360"/>
              <a:ext cx="1744200" cy="19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"/>
            <p:cNvPicPr/>
            <p:nvPr/>
          </p:nvPicPr>
          <p:blipFill>
            <a:blip r:embed="rId2"/>
            <a:stretch/>
          </p:blipFill>
          <p:spPr>
            <a:xfrm>
              <a:off x="1332000" y="5436720"/>
              <a:ext cx="86832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Rettangolo 15" descr=""/>
          <p:cNvPicPr/>
          <p:nvPr/>
        </p:nvPicPr>
        <p:blipFill>
          <a:blip r:embed="rId3"/>
          <a:stretch/>
        </p:blipFill>
        <p:spPr>
          <a:xfrm>
            <a:off x="3780000" y="4505400"/>
            <a:ext cx="449892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512E-4911-4494-AC5D-CC88F360C94E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2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There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 plenty of room at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Richard Feynman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adre delle nanotecnologi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California Institute of Technology – 29 dicembr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f6e"/>
                </a:solidFill>
                <a:latin typeface="Arial"/>
              </a:rPr>
              <a:t>Teorizzò, anticipando i tempi, che i materiali organizzati su scala nanometrica avrebbero acquisito proprietà completamente diverse da quelle che hanno a scala macro o microme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po 5"/>
          <p:cNvGrpSpPr/>
          <p:nvPr/>
        </p:nvGrpSpPr>
        <p:grpSpPr>
          <a:xfrm>
            <a:off x="1332000" y="4005360"/>
            <a:ext cx="2266920" cy="2332080"/>
            <a:chOff x="1332000" y="4005360"/>
            <a:chExt cx="2266920" cy="2332080"/>
          </a:xfrm>
        </p:grpSpPr>
        <p:sp>
          <p:nvSpPr>
            <p:cNvPr id="121" name="Rectangle 6"/>
            <p:cNvSpPr/>
            <p:nvPr/>
          </p:nvSpPr>
          <p:spPr>
            <a:xfrm>
              <a:off x="1444320" y="6224760"/>
              <a:ext cx="165636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2" descr="Gecko"/>
            <p:cNvPicPr/>
            <p:nvPr/>
          </p:nvPicPr>
          <p:blipFill>
            <a:blip r:embed="rId1"/>
            <a:stretch/>
          </p:blipFill>
          <p:spPr>
            <a:xfrm>
              <a:off x="1854720" y="4005360"/>
              <a:ext cx="1744200" cy="19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"/>
            <p:cNvPicPr/>
            <p:nvPr/>
          </p:nvPicPr>
          <p:blipFill>
            <a:blip r:embed="rId2"/>
            <a:stretch/>
          </p:blipFill>
          <p:spPr>
            <a:xfrm>
              <a:off x="1332000" y="5436720"/>
              <a:ext cx="86832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5" descr="stuck"/>
          <p:cNvPicPr/>
          <p:nvPr/>
        </p:nvPicPr>
        <p:blipFill>
          <a:blip r:embed="rId3"/>
          <a:stretch/>
        </p:blipFill>
        <p:spPr>
          <a:xfrm>
            <a:off x="4932360" y="4005360"/>
            <a:ext cx="265428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EDE2-C1FD-4EAC-AF00-24A132B0BE05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2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There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 plenty of room at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Richard Feynman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adre delle nanotecnologi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California Institute of Technology – 29 dicembr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f6e"/>
                </a:solidFill>
                <a:latin typeface="Arial"/>
              </a:rPr>
              <a:t>Teorizzò, anticipando i tempi, che i materiali organizzati su scala nanometrica avrebbero acquisito proprietà completamente diverse da quelle che hanno a scala macro o microme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www.playsystem.it/public/TMB-Box_alluminio_200_posti.jpg"/>
          <p:cNvPicPr/>
          <p:nvPr/>
        </p:nvPicPr>
        <p:blipFill>
          <a:blip r:embed="rId1"/>
          <a:stretch/>
        </p:blipFill>
        <p:spPr>
          <a:xfrm>
            <a:off x="1116000" y="4149720"/>
            <a:ext cx="2335320" cy="1789200"/>
          </a:xfrm>
          <a:prstGeom prst="rect">
            <a:avLst/>
          </a:prstGeom>
          <a:ln w="0">
            <a:noFill/>
          </a:ln>
        </p:spPr>
      </p:pic>
      <p:pic>
        <p:nvPicPr>
          <p:cNvPr id="130" name="Rettangolo 14" descr=""/>
          <p:cNvPicPr/>
          <p:nvPr/>
        </p:nvPicPr>
        <p:blipFill>
          <a:blip r:embed="rId2"/>
          <a:stretch/>
        </p:blipFill>
        <p:spPr>
          <a:xfrm>
            <a:off x="3438360" y="4724280"/>
            <a:ext cx="524196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3"/>
          <p:cNvSpPr/>
          <p:nvPr/>
        </p:nvSpPr>
        <p:spPr>
          <a:xfrm>
            <a:off x="179280" y="6613560"/>
            <a:ext cx="151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093B-A9CA-4CCD-A8BA-BE1E388DA100}" type="slidenum">
              <a:rPr b="1" lang="it-IT" sz="16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1640" y="259920"/>
            <a:ext cx="8101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f6e"/>
                </a:solidFill>
                <a:latin typeface="Arial"/>
              </a:rPr>
              <a:t>Criteri di scelta e impiego dei materiali - 2</a:t>
            </a:r>
            <a:endParaRPr b="1" lang="en-US" sz="2800" spc="-1" strike="noStrike">
              <a:solidFill>
                <a:srgbClr val="003f6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There</a:t>
            </a:r>
            <a:r>
              <a:rPr b="1" i="1" lang="ja-JP" sz="2400" spc="-1" strike="noStrike">
                <a:solidFill>
                  <a:srgbClr val="003f6e"/>
                </a:solidFill>
                <a:latin typeface="Arial"/>
              </a:rPr>
              <a:t>’</a:t>
            </a:r>
            <a:r>
              <a:rPr b="1" i="1" lang="it-IT" sz="2400" spc="-1" strike="noStrike">
                <a:solidFill>
                  <a:srgbClr val="003f6e"/>
                </a:solidFill>
                <a:latin typeface="Arial"/>
              </a:rPr>
              <a:t>s plenty of room at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Richard Feynman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 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Padre delle nanotecnologie</a:t>
            </a:r>
            <a:r>
              <a:rPr b="0" i="1" lang="ja-JP" sz="2400" spc="-1" strike="noStrike">
                <a:solidFill>
                  <a:srgbClr val="003f6e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f6e"/>
                </a:solidFill>
                <a:latin typeface="Arial"/>
              </a:rPr>
              <a:t>California Institute of Technology – 29 dicembr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f6e"/>
                </a:solidFill>
                <a:latin typeface="Arial"/>
              </a:rPr>
              <a:t>Teorizzò, anticipando i tempi, che i materiali organizzati su scala nanometrica avrebbero acquisito proprietà completamente diverse da quelle che hanno a scala macro o microme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11280" y="3701880"/>
            <a:ext cx="806436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www.playsystem.it/public/TMB-Box_alluminio_200_posti.jpg"/>
          <p:cNvPicPr/>
          <p:nvPr/>
        </p:nvPicPr>
        <p:blipFill>
          <a:blip r:embed="rId1"/>
          <a:stretch/>
        </p:blipFill>
        <p:spPr>
          <a:xfrm>
            <a:off x="1116000" y="4149720"/>
            <a:ext cx="2335320" cy="1789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nasa-rocket-launch"/>
          <p:cNvPicPr/>
          <p:nvPr/>
        </p:nvPicPr>
        <p:blipFill>
          <a:blip r:embed="rId2"/>
          <a:stretch/>
        </p:blipFill>
        <p:spPr>
          <a:xfrm>
            <a:off x="5508720" y="4005360"/>
            <a:ext cx="1727280" cy="21319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9:31:13Z</dcterms:created>
  <dc:creator>simon</dc:creator>
  <dc:description/>
  <dc:language>en-US</dc:language>
  <cp:lastModifiedBy>Alberto Cigada</cp:lastModifiedBy>
  <cp:lastPrinted>2003-01-29T10:35:29Z</cp:lastPrinted>
  <dcterms:modified xsi:type="dcterms:W3CDTF">2013-08-06T21:52:37Z</dcterms:modified>
  <cp:revision>382</cp:revision>
  <dc:subject/>
  <dc:title>Presentazione di PowerPoint</dc:title>
</cp:coreProperties>
</file>